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794-E5E2-4BD7-938D-BB6CDE6D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972-8CDD-41BD-92CE-7F8CF8C6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10F72-7BF1-4AFF-A44D-6F3A8AB9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ADAEB-6D02-4695-8748-07D4F50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06382-D353-47C6-B5B2-635722A6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EDCE7-24F7-48F6-B3D8-3B8024A8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644E9-DA4E-4EF0-BF9D-EB7D5E7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F0227-EAE1-418F-8420-717C869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2FC5B-F500-433D-AD7B-0CC46B16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4CAEB-E1D2-498D-80DA-53740556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1E30C-C426-4BC6-9308-CC9D3B08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8EC3C-3453-458C-BA49-F6ED9056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EC5-D0C8-4B2A-AC13-92A7EDDD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98476-AAF9-49E5-8C33-68BAFFDC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643F4-2514-4577-BF87-A3B4CEDF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5EA36-2A8C-4DF7-AA39-1954A4B3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AB22C-3429-4D39-863B-5BE08889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BDEF0-D939-4231-BC0E-42BF305A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83508-87B8-42E8-9232-77F32B7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5A9C1-9569-4038-9CF3-392EF8EE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5BC92-64B0-4B0E-A2C8-BCAAAD2B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FBB1E-58F0-40DF-84B4-BD3BBD67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E80A2-DCC6-41D1-B48E-01EA8DC0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390-4C4F-4259-8E1B-592E9FA6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6889D-7953-4B7C-8B8D-BEE0CE4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EC01D-5C4D-4D39-8D45-BAAB2F55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26617-B7BE-4FFA-9326-948B58DB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CFE05-331A-4809-859F-777CD51C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329F4-CFFC-4F7A-B2D6-13F179AD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939AD-6E30-4FB1-A7EB-FE6A39DF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453A8-5E0D-4E70-B668-23896BBD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F8E36-2F34-4E25-8E27-BF41A487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83584-D46B-4753-9BED-C0631AB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F752B-FBBA-4333-94D3-B4AD40B8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DD4D-CAF2-48C9-9D96-238602CF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43B6F-C885-404B-BF74-5AF5D508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2E7A8-0947-495D-AEBE-1BDDB50E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8C01F-DC09-4A18-AE7C-7A9E181D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3B001-D967-42EB-8BA1-DEBF567D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F141C-1069-422A-8C2A-20963CFC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48CEA-88AF-4E4B-9F42-373D5D27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7B240-DA46-46AA-A8F6-433A2EEB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39910-3AE2-4E65-ABD0-3A95ECBA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54938-EDCB-44F8-BC75-4BDF537A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F8CA9-85E5-4932-AFBC-B0F8D6B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CEFB-C132-46E2-82C9-34FCA2A7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51FAD-2DC2-4A4F-BBA6-B44370DA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49305-F8AC-465B-A2F8-FC857EC9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EE536-24A1-4B19-8410-595C69F1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C9DF6-E3D1-4BEF-8FDB-92BF5C41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372DF-B400-4506-982B-C342654E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D40D6-36F9-4F10-91B0-EEEBC10E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B1DD9-4653-4790-9FB8-56553C04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52020-0BE8-4C9B-B7A2-B152A256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F9D43-5352-4E4D-917E-4625E717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16252-4B46-469B-85E6-C7DE16B9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5B11-0F7A-47A3-8D76-E75E3F1E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104DA-C723-4C2C-A2DA-31E8357C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A908A-0FA6-4994-9E21-DADF12FC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4E310-A355-4A3C-AB41-78E9DC6A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C8E98-2EC1-4171-829D-36942338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E0C7C-A584-4ECD-9207-2317A873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B72F4-AA7A-4F02-8A48-42D0560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4581B-7786-48BE-905F-FF7858CC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C8E9-276F-424D-A6F7-52B8792B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D903-5B3B-475E-8D7E-07CCACD2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2BB4-64EE-4F1F-BC19-AB382CE5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7354-DCD5-4F31-B9E7-2693CE91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983-5915-42B0-B456-80D3748A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C3E1-4CF2-4649-90D5-41A6DF2E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4A48-A255-44BA-8FB5-A5BB287E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EC41-A72D-4167-A357-A31AFEC2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90F9-E004-48E0-AFD3-E762A659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26EA-5CD4-4E14-98B8-320DC260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44AC-B72B-45BD-B3FD-4CE99BA5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ACCA-33E4-4DD4-A250-9EEF6DDC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9671-6788-4EA7-8AE0-E51CA08D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59B2-47B8-4A91-94E3-53383F9C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7430-8B48-4838-B426-3D87A4B8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644-C05C-40B3-A3EB-45B36036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71C8-E0F4-4F84-991F-6398F11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AC85-C8FF-41A5-A875-CD21E6F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F23A-5606-430A-B5CA-B85DE083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D265-65BA-426F-B141-26D20857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E5AF-F6E3-4E9A-B1A6-D83AE5B6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5CA44-9C29-42E2-8AE8-35ABE038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5D89-36C1-42C1-835A-70AE04AD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0CBC-8B66-490B-ACCE-31241C29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096C-6280-4099-AB36-F1253C8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2137-4CB6-4B24-97FD-EB1ECA0C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384-1709-4DA5-98A1-939711EB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84B1-DF4A-4B7F-B7FB-BBBBDA57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8086-B795-47D3-AC7E-612DF4FE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CD21C-7F90-4437-A753-DB8D1AC8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D2882-0B17-47B3-A1B2-FDB5EC1A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D9A8-BB8D-402B-B280-BA4EF5E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2319-5831-4F0C-9D73-208B5ED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251E-B357-43D5-8221-049A026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1587-C19E-4519-8ED4-B7B90779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FC2F-CEBC-4516-8D16-E7A42BF2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9B6A-40DF-487D-9ACA-4EF6AB6E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BB4-87FF-4770-BF1B-C8B15F31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CCE7-2435-4CDA-B1A3-5F54CAC6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33645-2D4E-4414-87A5-107D0BC5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7459-8F14-4B7D-B88C-9CF3EDCE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9626-DD72-4F01-A81E-7F60BF0A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C88B4-0506-49B9-92A6-4D90A726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C4CE-7C0E-4B50-9EDD-51FAE6AC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8CC6D-4073-4F7E-9C02-B1020B4B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CF2B4-23FA-4E98-8FBA-E04F300E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17243-7196-4619-8445-99DA88F9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DC99-EDE2-4067-87D1-5DD8B7A5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AF2-858F-4D66-B176-9510FE3F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98D3-D227-420C-BD10-3DEAAACC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8BA7-B1FB-4EBB-89C5-5F511960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09041-6148-4FC1-8A9A-073CED9F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D62FE-10A4-47F4-BA70-DC64DF40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62BAB-BD47-4C1E-9D71-6BB0133A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E2D21-5B87-4246-BB35-64DC52C9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80498-C212-4FAC-BA84-71303C58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E1C6D-DE77-4FF4-8AF9-59807DE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91830-1E16-4D20-BFBC-03BC61AF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741C3-0197-49FE-929B-7257BC4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1A5-4BEE-41B0-9B0E-BF633D9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4E022-DD14-42DD-9DA0-8EE3AC8A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6656-2370-4A5F-8E51-EFD71AD8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8D51A-96CD-4A5D-A431-DFDC089A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BEE06-694A-46B7-9886-39139FE7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C3F7D-8012-4B5A-A864-CE63096E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D3AD8-030D-46F0-83E4-8F3E4DAF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2B9B4-EEF2-476E-B122-50B7D778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8F0FB-3B02-4533-8D7E-2A62944D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C1C8E-88E5-4140-A35A-73A582C3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1389-B525-4E8C-BB8A-0F8A4D5B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BE3-9864-43A6-997F-4DC2993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E7FE5-9B3D-4DBA-B75A-1B206C7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B78D8-2CAA-4B41-81D0-B07CE51A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6CDBE-80A3-4A60-88C8-674CBB5C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2098-737C-47FB-B170-E2A8486F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908D6-D822-4220-864B-D77C5C2E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FA544-7938-4885-A55D-3EEE89A7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02030-31FE-4048-97B7-61482B88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B4C34-A3A2-4D94-993B-5EDC7FA2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60E14-B6C4-4E5F-83EA-397E2E5D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4B88A-47EA-4F34-85A7-5DEEFAF5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D58-F604-4531-848B-7DA4AC4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FF72-53C6-4872-94B6-F8508145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816DA-9C14-4057-B2CD-AC54753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6461C-FAE3-44B6-9D93-119AB6E2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6340F-7612-4FB7-BF72-F39F4B2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4F399-94B7-4320-B610-78C62E3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5D99-C326-4EDB-805F-3068E6A5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0C7E4-521A-4581-8233-177A32FB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39ADB-139C-4311-BBF9-F3B7AB0B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CA641-BF65-46CC-A294-D473343D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F634A-572B-4469-8E7D-F2C0E65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BD5F-E615-468B-9FCE-1A9200D7649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401C-0315-4750-B32E-5A9266B87A9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877E-3674-4289-AC2E-A927174FDAD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2080-A379-4B79-AFEF-2742CA5C358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9769-0183-4831-848D-BAACA1B7374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D042-6EC3-4F0D-88D3-766F4AEDD69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2847-86F6-478E-B339-55BBD4E325B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A69-2F71-46CD-9E5D-4B16867A623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A09-07B1-44A3-81C0-30A3D782AA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2D4B-B021-4940-A8E7-2B18C566AB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21CB-A765-4BD2-AF89-EB0ECBCB046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1332-EF7E-426D-A802-2F40E59DE04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A6FE-28B8-4E77-9D06-DED6262B7E4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74484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БОУ ГИМНАЗИЯ №9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ЖЕЛЕЗНОГОРСК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6b86"/>
                </a:solidFill>
                <a:latin typeface="Georgia"/>
              </a:rPr>
              <a:t>ХАРЧЕВА А.Ю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6b86"/>
                </a:solidFill>
                <a:latin typeface="Georgia"/>
              </a:rPr>
              <a:t>ФЕДОТОВА Г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6349"/>
                </a:solidFill>
                <a:latin typeface="Georgia"/>
              </a:rPr>
              <a:t>Использование возможностей учебного проекта при реализации ФГОС (английский язык, 5класс</a:t>
            </a: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)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2" name="Объект 3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3942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«Путешествие в страну Туманного Альбиона»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4" name="Picture 2" descr="F:\6 в анг. праздник\DSCN2855.JPG"/>
          <p:cNvPicPr/>
          <p:nvPr/>
        </p:nvPicPr>
        <p:blipFill>
          <a:blip r:embed="rId1"/>
          <a:stretch/>
        </p:blipFill>
        <p:spPr>
          <a:xfrm>
            <a:off x="611280" y="321300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"/>
          <p:cNvPicPr/>
          <p:nvPr/>
        </p:nvPicPr>
        <p:blipFill>
          <a:blip r:embed="rId2"/>
          <a:stretch/>
        </p:blipFill>
        <p:spPr>
          <a:xfrm>
            <a:off x="6280200" y="4292640"/>
            <a:ext cx="1604880" cy="2209680"/>
          </a:xfrm>
          <a:prstGeom prst="rect">
            <a:avLst/>
          </a:prstGeom>
          <a:ln w="0">
            <a:noFill/>
          </a:ln>
        </p:spPr>
      </p:pic>
      <p:pic>
        <p:nvPicPr>
          <p:cNvPr id="686" name="Рисунок 3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32162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8" name="Объект 3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4295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0" name="Объект 2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912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2" name="Объект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1176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4" name="Объект 2" descr=""/>
          <p:cNvPicPr/>
          <p:nvPr/>
        </p:nvPicPr>
        <p:blipFill>
          <a:blip r:embed="rId1"/>
          <a:stretch/>
        </p:blipFill>
        <p:spPr>
          <a:xfrm>
            <a:off x="1978200" y="1876320"/>
            <a:ext cx="51512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Is that England?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6" name="Рисунок 5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2865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The United Kingdom of Great Britain and Northern Ireland</a:t>
            </a:r>
            <a:r>
              <a:rPr b="1" lang="en-US" sz="30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gland (London)– a red r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otland (Edinburgh)– a thist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les (Cardiff)– a daffodi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rthern Ireland (Belfast) – a shamroc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6156360" y="1536840"/>
            <a:ext cx="735120" cy="1035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2"/>
          <a:stretch/>
        </p:blipFill>
        <p:spPr>
          <a:xfrm>
            <a:off x="5400720" y="3284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"/>
          <p:cNvPicPr/>
          <p:nvPr/>
        </p:nvPicPr>
        <p:blipFill>
          <a:blip r:embed="rId3"/>
          <a:stretch/>
        </p:blipFill>
        <p:spPr>
          <a:xfrm>
            <a:off x="7308720" y="4365720"/>
            <a:ext cx="1274760" cy="1287360"/>
          </a:xfrm>
          <a:prstGeom prst="rect">
            <a:avLst/>
          </a:prstGeom>
          <a:ln w="0">
            <a:noFill/>
          </a:ln>
        </p:spPr>
      </p:pic>
      <p:pic>
        <p:nvPicPr>
          <p:cNvPr id="702" name="Рисунок 3" descr=""/>
          <p:cNvPicPr/>
          <p:nvPr/>
        </p:nvPicPr>
        <p:blipFill>
          <a:blip r:embed="rId4"/>
          <a:stretch/>
        </p:blipFill>
        <p:spPr>
          <a:xfrm>
            <a:off x="7666200" y="2349360"/>
            <a:ext cx="80460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b400"/>
                </a:solidFill>
                <a:latin typeface="Wide Latin"/>
              </a:rPr>
              <a:t>British fla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5867280" cy="914400"/>
          </a:xfrm>
          <a:prstGeom prst="rect">
            <a:avLst/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howcard Gothic"/>
              </a:rPr>
              <a:t>UNION</a:t>
            </a:r>
            <a:r>
              <a:rPr b="1" lang="en-US" sz="4800" spc="-1" strike="noStrike">
                <a:solidFill>
                  <a:srgbClr val="646b86"/>
                </a:solidFill>
                <a:latin typeface="Showcard Gothi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Showcard Gothic"/>
              </a:rPr>
              <a:t>JACK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5" name="Picture 4" descr="f1"/>
          <p:cNvPicPr/>
          <p:nvPr/>
        </p:nvPicPr>
        <p:blipFill>
          <a:blip r:embed="rId1"/>
          <a:stretch/>
        </p:blipFill>
        <p:spPr>
          <a:xfrm>
            <a:off x="2987640" y="2816280"/>
            <a:ext cx="3306960" cy="16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533520" y="87948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eorgia"/>
              </a:rPr>
              <a:t>British flag is called </a:t>
            </a: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“Union Jack”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Really there are </a:t>
            </a:r>
            <a:r>
              <a:rPr b="0" lang="en-US" sz="3600" spc="-1" strike="noStrike">
                <a:solidFill>
                  <a:srgbClr val="0066ff"/>
                </a:solidFill>
                <a:latin typeface="Georgia"/>
              </a:rPr>
              <a:t>three flags</a:t>
            </a: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 in it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553680" y="2819520"/>
            <a:ext cx="274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b4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b400"/>
                </a:solidFill>
                <a:latin typeface="Georgia"/>
              </a:rPr>
              <a:t>English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Scottish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ccb4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b400"/>
                </a:solidFill>
                <a:latin typeface="Georgia"/>
              </a:rPr>
              <a:t>Irish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8" name="Рисунок 1" descr=""/>
          <p:cNvPicPr/>
          <p:nvPr/>
        </p:nvPicPr>
        <p:blipFill>
          <a:blip r:embed="rId1"/>
          <a:stretch/>
        </p:blipFill>
        <p:spPr>
          <a:xfrm>
            <a:off x="4648320" y="3068640"/>
            <a:ext cx="3371760" cy="26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Проектная деятельность </a:t>
            </a: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в реализации ФГОС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ФГО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деятельностный подхо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роектн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универсальные учебные действ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знавательные                                      регулятивные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коммуникативные            личност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Стрелка вниз 3"/>
          <p:cNvSpPr/>
          <p:nvPr/>
        </p:nvSpPr>
        <p:spPr>
          <a:xfrm>
            <a:off x="4500720" y="1989000"/>
            <a:ext cx="142560" cy="50328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Стрелка вниз 4"/>
          <p:cNvSpPr/>
          <p:nvPr/>
        </p:nvSpPr>
        <p:spPr>
          <a:xfrm>
            <a:off x="4525920" y="3141720"/>
            <a:ext cx="117360" cy="43164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Стрелка вниз 5"/>
          <p:cNvSpPr/>
          <p:nvPr/>
        </p:nvSpPr>
        <p:spPr>
          <a:xfrm>
            <a:off x="4500720" y="4149720"/>
            <a:ext cx="142560" cy="43164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63" name="Прямая со стрелкой 7"/>
          <p:cNvCxnSpPr/>
          <p:nvPr/>
        </p:nvCxnSpPr>
        <p:spPr>
          <a:xfrm flipH="1">
            <a:off x="2842560" y="4868640"/>
            <a:ext cx="577080" cy="2163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4" name="Прямая со стрелкой 9"/>
          <p:cNvCxnSpPr/>
          <p:nvPr/>
        </p:nvCxnSpPr>
        <p:spPr>
          <a:xfrm flipH="1">
            <a:off x="3418920" y="4869000"/>
            <a:ext cx="648360" cy="7214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5" name="Прямая со стрелкой 11"/>
          <p:cNvCxnSpPr/>
          <p:nvPr/>
        </p:nvCxnSpPr>
        <p:spPr>
          <a:xfrm>
            <a:off x="5580000" y="4868640"/>
            <a:ext cx="937440" cy="2163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6" name="Прямая со стрелкой 13"/>
          <p:cNvCxnSpPr/>
          <p:nvPr/>
        </p:nvCxnSpPr>
        <p:spPr>
          <a:xfrm>
            <a:off x="5003280" y="4869000"/>
            <a:ext cx="864360" cy="7214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English Flag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Georgia"/>
              </a:rPr>
              <a:t>  </a:t>
            </a:r>
            <a:r>
              <a:rPr b="0" lang="en-US" sz="4400" spc="-1" strike="noStrike">
                <a:solidFill>
                  <a:srgbClr val="a50021"/>
                </a:solidFill>
                <a:latin typeface="Georgia"/>
              </a:rPr>
              <a:t>The red cross on white of St. George of England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6" descr="f2"/>
          <p:cNvPicPr/>
          <p:nvPr/>
        </p:nvPicPr>
        <p:blipFill>
          <a:blip r:embed="rId1"/>
          <a:stretch/>
        </p:blipFill>
        <p:spPr>
          <a:xfrm>
            <a:off x="1465200" y="2708280"/>
            <a:ext cx="2819520" cy="1693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Georgia"/>
              </a:rPr>
              <a:t>Scottish Flag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The white “X” on blue of St Andrew for Scotland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4" name="Picture 6" descr="f3"/>
          <p:cNvPicPr/>
          <p:nvPr/>
        </p:nvPicPr>
        <p:blipFill>
          <a:blip r:embed="rId1"/>
          <a:stretch/>
        </p:blipFill>
        <p:spPr>
          <a:xfrm>
            <a:off x="1332000" y="3068640"/>
            <a:ext cx="2651040" cy="1601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Irish Flag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990360" y="2819160"/>
            <a:ext cx="3352680" cy="190476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4400" spc="-1" strike="noStrike">
                <a:solidFill>
                  <a:srgbClr val="a50021"/>
                </a:solidFill>
                <a:latin typeface="Georgia"/>
              </a:rPr>
              <a:t>The red “X” on white of St. Patrick for Ireland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990720" y="2819520"/>
            <a:ext cx="33526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Line 11"/>
          <p:cNvSpPr/>
          <p:nvPr/>
        </p:nvSpPr>
        <p:spPr>
          <a:xfrm>
            <a:off x="990720" y="2819520"/>
            <a:ext cx="3352680" cy="19047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Line 12"/>
          <p:cNvSpPr/>
          <p:nvPr/>
        </p:nvSpPr>
        <p:spPr>
          <a:xfrm flipH="1">
            <a:off x="990360" y="2819520"/>
            <a:ext cx="3276360" cy="19047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50760" y="914400"/>
            <a:ext cx="935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Georgia"/>
              </a:rPr>
              <a:t>Finally when we put one Flag to another we will hav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Georgia"/>
              </a:rPr>
              <a:t>Union Jack”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2" name="Picture 3" descr="f1"/>
          <p:cNvPicPr/>
          <p:nvPr/>
        </p:nvPicPr>
        <p:blipFill>
          <a:blip r:embed="rId1"/>
          <a:stretch/>
        </p:blipFill>
        <p:spPr>
          <a:xfrm>
            <a:off x="3548160" y="4869000"/>
            <a:ext cx="2357280" cy="11761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f2"/>
          <p:cNvPicPr/>
          <p:nvPr/>
        </p:nvPicPr>
        <p:blipFill>
          <a:blip r:embed="rId2"/>
          <a:stretch/>
        </p:blipFill>
        <p:spPr>
          <a:xfrm>
            <a:off x="6303960" y="2579760"/>
            <a:ext cx="2340000" cy="1406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f3"/>
          <p:cNvPicPr/>
          <p:nvPr/>
        </p:nvPicPr>
        <p:blipFill>
          <a:blip r:embed="rId3"/>
          <a:stretch/>
        </p:blipFill>
        <p:spPr>
          <a:xfrm>
            <a:off x="539640" y="2579760"/>
            <a:ext cx="2170080" cy="1311120"/>
          </a:xfrm>
          <a:prstGeom prst="rect">
            <a:avLst/>
          </a:prstGeom>
          <a:ln w="0">
            <a:noFill/>
          </a:ln>
        </p:spPr>
      </p:pic>
      <p:grpSp>
        <p:nvGrpSpPr>
          <p:cNvPr id="725" name="Группа 1"/>
          <p:cNvGrpSpPr/>
          <p:nvPr/>
        </p:nvGrpSpPr>
        <p:grpSpPr>
          <a:xfrm>
            <a:off x="3714840" y="2654280"/>
            <a:ext cx="2023920" cy="1257480"/>
            <a:chOff x="3714840" y="2654280"/>
            <a:chExt cx="2023920" cy="1257480"/>
          </a:xfrm>
        </p:grpSpPr>
        <p:sp>
          <p:nvSpPr>
            <p:cNvPr id="726" name="Rectangle 6"/>
            <p:cNvSpPr/>
            <p:nvPr/>
          </p:nvSpPr>
          <p:spPr>
            <a:xfrm>
              <a:off x="3714840" y="2654280"/>
              <a:ext cx="2023920" cy="12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7" name="Line 7"/>
            <p:cNvSpPr/>
            <p:nvPr/>
          </p:nvSpPr>
          <p:spPr>
            <a:xfrm flipH="1">
              <a:off x="3781080" y="2654280"/>
              <a:ext cx="1957680" cy="12574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8" name="Line 8"/>
            <p:cNvSpPr/>
            <p:nvPr/>
          </p:nvSpPr>
          <p:spPr>
            <a:xfrm>
              <a:off x="3781080" y="2654280"/>
              <a:ext cx="1957680" cy="12574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0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2" name="Объект 2" descr=""/>
          <p:cNvPicPr/>
          <p:nvPr/>
        </p:nvPicPr>
        <p:blipFill>
          <a:blip r:embed="rId1"/>
          <a:stretch/>
        </p:blipFill>
        <p:spPr>
          <a:xfrm>
            <a:off x="2614680" y="2120760"/>
            <a:ext cx="359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4" name="Объект 2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562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6" name="Объект 2" descr=""/>
          <p:cNvPicPr/>
          <p:nvPr/>
        </p:nvPicPr>
        <p:blipFill>
          <a:blip r:embed="rId1"/>
          <a:stretch/>
        </p:blipFill>
        <p:spPr>
          <a:xfrm>
            <a:off x="1386000" y="1700280"/>
            <a:ext cx="6210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8" name="Объект 2" descr=""/>
          <p:cNvPicPr/>
          <p:nvPr/>
        </p:nvPicPr>
        <p:blipFill>
          <a:blip r:embed="rId1"/>
          <a:stretch/>
        </p:blipFill>
        <p:spPr>
          <a:xfrm>
            <a:off x="1925640" y="1841400"/>
            <a:ext cx="52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0" name="Объект 2" descr=""/>
          <p:cNvPicPr/>
          <p:nvPr/>
        </p:nvPicPr>
        <p:blipFill>
          <a:blip r:embed="rId1"/>
          <a:stretch/>
        </p:blipFill>
        <p:spPr>
          <a:xfrm>
            <a:off x="1600200" y="1595520"/>
            <a:ext cx="59072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Умения, которые формируются у детей через проектную деятельность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Рефлексивные умения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исковые ум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авыки оценочной самостоятель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Умения и навыки работы в сотрудничеств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Коммуникативные ум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резентационные умения и навы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2" name="Объект 2" descr=""/>
          <p:cNvPicPr/>
          <p:nvPr/>
        </p:nvPicPr>
        <p:blipFill>
          <a:blip r:embed="rId1"/>
          <a:stretch/>
        </p:blipFill>
        <p:spPr>
          <a:xfrm>
            <a:off x="1346040" y="1612800"/>
            <a:ext cx="64152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4" name="Рисунок 3" descr=""/>
          <p:cNvPicPr/>
          <p:nvPr/>
        </p:nvPicPr>
        <p:blipFill>
          <a:blip r:embed="rId1"/>
          <a:stretch/>
        </p:blipFill>
        <p:spPr>
          <a:xfrm>
            <a:off x="1649520" y="2205000"/>
            <a:ext cx="6437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6" name="Объект 2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299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8" name="Объект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77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0" name="Объект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706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2" name="Объект 2" descr=""/>
          <p:cNvPicPr/>
          <p:nvPr/>
        </p:nvPicPr>
        <p:blipFill>
          <a:blip r:embed="rId1"/>
          <a:stretch/>
        </p:blipFill>
        <p:spPr>
          <a:xfrm>
            <a:off x="1728720" y="1697040"/>
            <a:ext cx="56498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4" name="Объект 2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3305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eorgia"/>
              </a:rPr>
              <a:t>Практическая работа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Соберите карту страны изучаемого язы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апишите ее полное название и названия стран, входящих в ее состав, их столи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Приклейте символы этих стра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Изготовьте флажок </a:t>
            </a:r>
            <a:r>
              <a:rPr b="1" lang="en-US" sz="2700" spc="-1" strike="noStrike">
                <a:solidFill>
                  <a:srgbClr val="002060"/>
                </a:solidFill>
                <a:latin typeface="Georgia"/>
              </a:rPr>
              <a:t>Union Jack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и подколите его к макет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Georgia"/>
              </a:rPr>
              <a:t>Изготовление макета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8" name="Объект 2" descr=""/>
          <p:cNvPicPr/>
          <p:nvPr/>
        </p:nvPicPr>
        <p:blipFill>
          <a:blip r:embed="rId1"/>
          <a:stretch/>
        </p:blipFill>
        <p:spPr>
          <a:xfrm>
            <a:off x="2971800" y="1989000"/>
            <a:ext cx="3292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60" name="Объект 2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235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Почему именно страновед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«Изучение иностранного языка неотделимо от ознакомления с культурой страны изучаемого языка, ее историей, социально-культурными традициями, особенностями национального видения мира народом-носителем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ПРОЕКТ «Объединенное Королевство»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Информационный </a:t>
            </a: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(направлен на сбор информации и ознакомление с ней ее участников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Межпредметный </a:t>
            </a: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(по содержанию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Групповой </a:t>
            </a: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(по форме работы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Долгосрочный </a:t>
            </a: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(по продолжительности - 6месяцев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роект «Объединенное королевство Великобритании и Северной Ирландии»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редполагает знакомство учащихся 5 класс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с географическим положением, климатом, политическим устройством, традициями и обычаями, известными личностями, достопримечательностями стран, входящих в Объединенное Королевств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Запуск проек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сле просмотра видео сюжета предлагается ответить на ряд вопросов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Знаете ли вы, где живет Королев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Знаете ли вы членов семьи английской королевы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Сколько весят часы на башне Биг Бен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чему они так называются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Как называется английский флаг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Из каких частей он состоит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24000" y="111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Цель проекта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асширение и углубление знаний в области социальной и культурной истории стран, входящих в Объединенное Королевств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Задачи проект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отбор страноведческого материа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дбор наглядного материала, изготовление макета королевств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изготовление национальных костюмов/ элементов костю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дбор стихов, песен, танцев и разучивание 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Планирование проек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I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 четверть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.Транспорт в Лондоне. Двухэтажные автобусы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. Королева Елизавета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ее семь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. Букингемский дворец – резиденция королевской семь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 Английская семья. Традиции и обыча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5. Рождество  в Англ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6. Рождественские традиции в Англии. Познавательные задан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7. Мастерская Санты Клауса. Практическая работ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09:00:19Z</dcterms:created>
  <dc:creator>admin</dc:creator>
  <dc:description/>
  <dc:language>en-US</dc:language>
  <cp:lastModifiedBy>pichugina</cp:lastModifiedBy>
  <dcterms:modified xsi:type="dcterms:W3CDTF">2014-05-23T08:32:22Z</dcterms:modified>
  <cp:revision>69</cp:revision>
  <dc:subject/>
  <dc:title>Возможности проектной деятельности в реализации ФГОС</dc:title>
</cp:coreProperties>
</file>